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2B4-7887-42D8-BE21-51FBEBF7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E0D-17B7-4F86-A0CD-54F202A9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E55-6A8F-441D-8F65-75D8BF6F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CC0-FBB5-4CD7-923A-83352786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4D6-A198-4CE7-8DE6-140954B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2DF-57EC-4326-9CB1-5405FD3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644-CB80-4B00-A2EE-8605D650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0DA-0F8E-4B52-924D-BDE85E23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290-7824-47C3-AD2F-48908409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222-0BE2-49DD-88FB-2912D66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7D0-F9A4-4F02-829D-7A38D28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B9E-CFB9-4757-B070-57B624E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8CB-1A19-4A0B-AA63-AFCBF8AFB7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62120" y="2057400"/>
            <a:ext cx="7315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66"/>
                </a:solidFill>
                <a:latin typeface="Times New Roman"/>
              </a:rPr>
              <a:t>Enterprise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3366"/>
                </a:solidFill>
                <a:latin typeface="Times New Roman"/>
              </a:rPr>
              <a:t>Business Challen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657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304920" y="1106640"/>
            <a:ext cx="4419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Aims of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orking as 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ciding what makes a successful bus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sign a saleabl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ing the product and deciding how to se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Persuading others to pay for you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e as many as you can to maximise your teams pro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Simon\AppData\Roaming\Microsoft\Media Catalog\Downloaded Clips\clad\j0434111.jpg"/>
          <p:cNvPicPr/>
          <p:nvPr/>
        </p:nvPicPr>
        <p:blipFill>
          <a:blip r:embed="rId1"/>
          <a:stretch/>
        </p:blipFill>
        <p:spPr>
          <a:xfrm>
            <a:off x="4724280" y="1219320"/>
            <a:ext cx="4114800" cy="277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808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hat do you need to set up and run a successful manufacturing compan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3738600" cy="293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9810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1143000" y="129528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5 minut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28195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2 minute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66680" y="419112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3366"/>
                </a:solidFill>
                <a:latin typeface="Times New Roman"/>
              </a:rPr>
              <a:t>1 minut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800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6000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04920" y="12193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738600" cy="2940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83808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ood 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172200" y="5105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172200" y="3276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Good ICT and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6019920" y="1981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bility to transport product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048120" y="5791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Qualified, skilfu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27672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 product that others want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380880" y="335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Invest in developing new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57200" y="4800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taff communicate and work well as a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43200" cy="548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914400"/>
            <a:ext cx="396252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510000" cy="5284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495680" y="914400"/>
            <a:ext cx="396252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600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80880" y="1371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Brainstorm ideas for products that we could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57200" y="27432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66"/>
                </a:solidFill>
                <a:latin typeface="Times New Roman"/>
              </a:rPr>
              <a:t>4 min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57200" y="4876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1 minu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57200" y="38098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Times New Roman"/>
              </a:rPr>
              <a:t>2 minu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3813120" cy="556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9810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12000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6000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767360" cy="544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288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80880" y="1447920"/>
            <a:ext cx="50292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imes New Roman"/>
              </a:rPr>
              <a:t>What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evise your marke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ork out how much you want to sell your product for and hope your sales pitch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se your profit to buy more materials and make more products which can be s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:\Users\Simon\AppData\Roaming\Microsoft\Media Catalog\Downloaded Clips\cla1\j0403601.jpg"/>
          <p:cNvPicPr/>
          <p:nvPr/>
        </p:nvPicPr>
        <p:blipFill>
          <a:blip r:embed="rId1"/>
          <a:stretch/>
        </p:blipFill>
        <p:spPr>
          <a:xfrm>
            <a:off x="5715000" y="1143000"/>
            <a:ext cx="308916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5410080" y="518148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imes New Roman"/>
              </a:rPr>
              <a:t>The winning team will simply be the one that make most pro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3619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21:07:31Z</dcterms:created>
  <dc:creator>Simon</dc:creator>
  <dc:description/>
  <dc:language>en-US</dc:language>
  <cp:lastModifiedBy> </cp:lastModifiedBy>
  <dcterms:modified xsi:type="dcterms:W3CDTF">2010-07-20T10:40:13Z</dcterms:modified>
  <cp:revision>6</cp:revision>
  <dc:subject/>
  <dc:title>PowerPoint Presentation</dc:title>
</cp:coreProperties>
</file>